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8EE-1437-4355-A1C0-0C7D412C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82F-E835-46DD-BF33-E4AD66FC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D69B-84F6-45ED-B5E2-91CA8328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252-F4B1-42BD-8332-49D9BA14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FB2-BE03-4E92-BDA3-4CAC6872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08A-4739-41DA-8AE2-82D6FBF8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D04-32C4-43E7-AEBD-2EB5B482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8335-D688-4A80-BCF6-81CB0282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8CB-8A60-442C-A20C-7B995444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D99-79D5-4902-AF5C-6DA79EF4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F52-CE39-4839-90EB-2E4EF7F9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A347-FFC7-4BD7-9D07-CD6BAB68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3B0F-400C-4F79-855D-A4F131386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at d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5029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édacteur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609480"/>
            <a:ext cx="1828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soins du service client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7180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traintes du fournisseur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648320"/>
            <a:ext cx="685800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ngagements réciproque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010280"/>
            <a:ext cx="685800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cateurs de mesur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534520"/>
            <a:ext cx="3429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8534520"/>
            <a:ext cx="3429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47:46Z</dcterms:created>
  <dc:creator>MADERS</dc:creator>
  <dc:description/>
  <dc:language>en-US</dc:language>
  <cp:lastModifiedBy>MADERS</cp:lastModifiedBy>
  <dcterms:modified xsi:type="dcterms:W3CDTF">2002-03-09T11:04:46Z</dcterms:modified>
  <cp:revision>4</cp:revision>
  <dc:subject/>
  <dc:title>Présentation PowerPoint</dc:title>
</cp:coreProperties>
</file>